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BF6-5FA0-4750-ACD8-4B4D874F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10E-EA7B-4FB9-920C-2E1D0985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BB0-E3E7-4974-AC83-681EF8F7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CD9-8C88-435F-BA2F-86257AA1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4AB-9BA7-4952-A894-68A080CC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9EC-7DA1-4764-BC54-15218EB3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0AD-46C5-41D9-9A29-8A99B5D4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051-E951-4256-A550-20D5313A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EC1-866C-4190-89FE-91917E6E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561-6E72-475D-8E28-D7DE7E8C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BEC-1A74-4097-AFEB-B5B64620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B23-00E6-482B-8C46-F954EE15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6A39-85A0-455E-850B-A68FE466C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areja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M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a. Yo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 la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otro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dalena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nor y Elio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De dónde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tú, Alfredo, 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mpleta,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use the correct form of the verb 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 (1)_______ Mariana Gálvez.  Ella (2)_____ mi mejor amiga.  Ella y su familia (3)________ de Guatemala.  Mariana y yo (4)___________ estudiantes del 10 grado.  El señor y la señora Gálvez (5) _________ profesores de ciencias.  Yo (6) __________ una estudiante en la clase de la señora Gálv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25909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oy Juan Quint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3260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. es m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3962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. c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uatro 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5812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omos estudiantes  de españ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8954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. e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 de Per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150804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on de Mé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8892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es la profesora Jimene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2096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de dónde e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82520"/>
            <a:ext cx="90676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e llamo ______________         Clase 6nh (602)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a fecha es ________________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area #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52280"/>
            <a:ext cx="87631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¡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o, no es cierto!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 Rewrite using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teléfono es 212-35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y es domin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ted es mi prof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y es el primero de ago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i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Escribe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. With the following subjects, finish the sentence using the verb SER.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Usted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Yo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ura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Ustedes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El señor Ortega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Josué y Reynaldo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Nosotras…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2:55:16Z</dcterms:created>
  <dc:creator>Helen Zumaeta</dc:creator>
  <dc:description/>
  <dc:language>en-US</dc:language>
  <cp:lastModifiedBy>Helen Zumaeta</cp:lastModifiedBy>
  <dcterms:modified xsi:type="dcterms:W3CDTF">2012-10-11T02:55:39Z</dcterms:modified>
  <cp:revision>1</cp:revision>
  <dc:subject/>
  <dc:title>Slide 1</dc:title>
</cp:coreProperties>
</file>